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578E-99D0-4654-8FFB-FA369DA355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F9E0-0505-4F03-8388-25FBD56BFD6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BC2D-1815-4B93-80B1-2E24C747B3A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7587-D409-45EB-8DC5-8E36D5DFBAC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AD791-B26C-489A-9058-28238530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7B0B2-B37A-449E-A3C2-A34D6A01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4E3A1-45A8-4001-988B-E35B229F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0D6A2-A656-43E7-AA37-14E52644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AFD1E-3C32-42D1-A1AF-D1BD5EC1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C3672-31CA-4B55-83E0-0C18F625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A9BD7-F592-4EDD-9E09-6E59156A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84A9E-39BB-4439-BCCB-7BB9D1C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98070-264A-43DD-8DE9-8F4BDA5B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5F1DA-6CA0-4E59-AD35-4AE9C186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84264-32DF-45D6-8A12-AD124C38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A4793-45ED-4E92-A48B-A9DCC3AD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4BB660-7370-4466-B45D-2FE24A39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6C5991-AFA7-451B-A0B2-4A3C7210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A23E17-8AC1-4BF2-B152-297A7097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11316-3546-486E-92EB-B0C0A177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DFF6DB-80E7-48D1-9517-2336010A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0BED6-8DC7-44BE-BD5B-A93460B1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CD22E-6E0A-42FE-9B9A-D53104DF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C906D-F1B7-4E0F-985C-85E7CB06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C59366-F5A9-4770-BA04-5DDDA487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2600F-6437-4508-9B68-A41F3BB7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7A21A3-C13C-40DC-A3F2-FDE5337E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9A703-691C-4FA9-96D8-858976BF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B594-3C37-4D92-AA38-A9774007B13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5439-FCF3-4824-A7AB-DC013D894D7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D390-E3A8-4D56-8F7B-76AB7DF183E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CEF0-C4D3-4E64-994E-66F3BA3D549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1D41-61BC-4313-B9E3-2353E494A26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8FE4-44B1-4306-9492-90C70DC311C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7B75-836C-4763-9BC3-F6E37D0B2F4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8FA7-9A35-46B8-91F1-5D65FB42677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F867-C442-4E72-83B8-CD670D3DA4B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636A-2144-4F9B-9281-EF9154C34B6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 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99680"/>
              <a:ext cx="8644320" cy="32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의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의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880"/>
            <a:chOff x="0" y="0"/>
            <a:chExt cx="9501120" cy="641088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04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35848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600"/>
              <a:chOff x="285480" y="3572280"/>
              <a:chExt cx="8643960" cy="283860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의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 참여를 관망하며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49560"/>
                <a:chOff x="213840" y="928440"/>
                <a:chExt cx="8930160" cy="124956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4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 거주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16480"/>
              <a:chOff x="285480" y="785520"/>
              <a:chExt cx="8715600" cy="531648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5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하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개인생활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369120"/>
            <a:chOff x="71280" y="357120"/>
            <a:chExt cx="9001440" cy="636912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369120"/>
              <a:chOff x="213840" y="357120"/>
              <a:chExt cx="8787240" cy="636912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6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천여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율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4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이 많은 노인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 동거하는 비율이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주택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71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지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옥탑방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이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비용 과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구조 불편 등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해 주거편이도와 만족도가 낮은 편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ADL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 노인의 주거만족도가 상대적으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2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108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뷸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의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2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286320"/>
            <a:chOff x="0" y="0"/>
            <a:chExt cx="9144000" cy="628632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428840"/>
              <a:ext cx="8501040" cy="4857480"/>
              <a:chOff x="357120" y="1428840"/>
              <a:chExt cx="8501040" cy="485748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428840"/>
                <a:ext cx="8501040" cy="48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880"/>
                <a:ext cx="8286840" cy="455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시설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이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사회보험제도 방식의 운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국가지원방식의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3:50:21Z</dcterms:modified>
  <cp:revision>34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